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024-6A12-4E3D-8EE3-BFDF497F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7E7-BDBF-46C8-8C3F-27D6DA24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B19-4491-4B54-A7BF-52885D41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8AF-E8F2-4DF7-900F-BC5D6893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AA1D-AF22-4064-8515-6A01B5AB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3259-41AE-4A07-BB38-35FAC143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1881-A187-427F-AA0D-B3EBA618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5D80-91D4-4C29-A64F-66B9EF56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E407-80FE-4B61-B9CC-0AF43CFE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E67B-5E5E-4961-A6B3-52403A54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D705-3D6F-4EB9-AA5B-7185AF55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E2F-C8DD-4713-AE35-03823737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F0A6-8D04-4CDA-9A49-944B64DC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457C-5BEB-4F1B-953D-8161CAC1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0D2A-F7A2-4A4A-B4D4-8A220797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9414-35F6-4121-9331-3DB35C3F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91AB-0E7D-4CE7-AAF4-5E306E46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686-B2CD-407B-BC6C-C0F853CB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F97-3AE2-46A2-9185-8FCB9B58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EBC-5576-4A43-871F-344BD013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FFA-A77E-472D-8D28-C9300FBB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113-1A6C-4494-AF6E-6F756166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0EA-9405-43B3-A5F4-53FE4CBF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018-5BC4-419D-85E1-6327E8BE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A068-CB31-41B3-A25E-038729979CB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28E2-D4FF-4F13-A222-7690A8D815D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8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Embedded%20Sound%201" TargetMode="External"/><Relationship Id="rId3" Type="http://schemas.microsoft.com/office/2007/relationships/media" Target="file:///tmp/home/.config/libreoffice/4/user/gallery/Embedded%20Sound%201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By:Anna Gibbs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828800" y="2514600"/>
            <a:ext cx="5867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Chalkboard Bold"/>
              </a:rPr>
              <a:t>Poisoning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Chalkboard Bold"/>
              <a:ea typeface="Chalkboard Bold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1597" dir="13146223" blurRad="0" rotWithShape="0">
              <a:srgbClr val="000000">
                <a:alpha val="12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all the 24-hour poison control center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4760" y="2742840"/>
            <a:ext cx="7010280" cy="3429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Or the Doctor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e center’s phone number is usually listed on the inside front cover of the telephone book. 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Listen for and follow all instructions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8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14400" y="19051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0" y="228600"/>
            <a:ext cx="236232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2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What to do..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2285640"/>
            <a:ext cx="6400800" cy="3429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all Emergency Medical services if you are told to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Remove any extra bits of the poison from around the person’s mouth with a clean, damp cloth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2057400" cy="1322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What to do…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3360" y="2437920"/>
            <a:ext cx="7010280" cy="3429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Lastly save the container of the poisonous substance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how it to the medical team and give them any details you are aware of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-2590920" y="-152280"/>
            <a:ext cx="1028880" cy="1625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-228600" y="3048120"/>
            <a:ext cx="2666880" cy="342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-1717560" y="6054840"/>
            <a:ext cx="1717560" cy="803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8737560" y="52578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17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ese are simple steps in saving a life from poison. (: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ヒラギノ角ゴ Pro W3"/>
              </a:rPr>
              <a:t>_x0016_Thanks for watching!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7:06Z</dcterms:created>
  <dc:creator>Kraybill Campus LMS</dc:creator>
  <dc:description/>
  <dc:language>en-US</dc:language>
  <cp:lastModifiedBy>Kraybill Campus LMS</cp:lastModifiedBy>
  <dcterms:modified xsi:type="dcterms:W3CDTF">2011-05-24T13:04:38Z</dcterms:modified>
  <cp:revision>7</cp:revision>
  <dc:subject/>
  <dc:title>PowerPoint Presentation</dc:title>
</cp:coreProperties>
</file>